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FD9-E24D-49F3-B5E8-E7F5995B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3C1-1010-4CDA-92FC-907CB1C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2D1-BC05-43B2-83CE-68528D5A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78F-0FD6-4C84-8C2E-982C27D8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20E-F011-420D-9CC5-A058F3AA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1CE-1D18-4BD4-A030-538AA2B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8CB-2388-4F75-8E56-A3DC56C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5AF6-1F2E-4A9E-AD51-E6B2266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9E1-8D33-4202-A7DA-02DA65C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256-32AC-45C7-982E-58D0907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EC1-2830-4A3E-862B-2BB923D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76D-7305-4E38-A5CB-BF0E4B2B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BCE8-54D6-4794-B65E-EF67AF7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189-4E26-4119-A581-205CB9C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1C3C-B384-4A65-BACC-CE8CC70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AE0-AEDB-4886-83CB-940CA244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EB3-75B7-442C-A359-1BE77C32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1BA-57F5-4D0A-BD87-FE9B842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F07-F7E4-4586-AEFE-77F7A65B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46A-6837-441E-90BA-D3D690F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76F-2E1A-4E52-BD75-4594DE39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DF4-E8E4-4555-9A85-67A57F9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51F-FD97-4426-913C-AA012DB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30D-E292-4956-9439-B03C197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D7C-9C3D-41AC-BFA9-3CA256C5B39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B8A9-9218-4A1E-848E-0BDDF7FA34B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71600" y="1295280"/>
            <a:ext cx="66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artimos de la base que la lengua es un códig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municación compartido por todos los hablantes de una misma comunidad lingüís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 decir: todos los habitantes de una comunidad lingüística cue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 los rudimentos necesarios para poder comunicarse entre el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lenguaje se usa para comunicar una realidad (sea afirmativa, negativa o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sibilidad), un deseo, una admiración, o para preguntar o dar una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gún sea como utilicemos las distintas oraciones que expresan dic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alidades, será la función que desempeñe el lengu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lenguaje tiene seis fun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1. Función Emo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. Función Con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unción Refere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4. Función Metalingüí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5. Función F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6. Función P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1 . </a:t>
            </a: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emotiva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mensaje que emite el emisor hace referencia a lo que siente, su yo íntimo, predominando él, sobre todos los demás factores que constituyen el proceso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formas lingüísticas en las que se realiza esta función corresponde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interjeccio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y a las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oracio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exclamativa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: - ¡Ay! ¡Qué dolor de cabez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¡Qué gusto de ver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¡Qué rico el post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Con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receptor predomina sobre los otros factores de la comunicación, pues la comunicación está centrada en la persona del tú, de quien se espera la realización de un acto o una respue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formas lingüísticas en las que se realiza preferentemente la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ativa corresponden al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vocativ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y a las oraciones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imperativa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interrogativa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dro, haga el favor de traer más caf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¿Trajiste la car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ndrés, cierra la ventana, por fav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referencial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acto de comunicación está centrado en el contexto, o sea, en el tema o asunto del que se está haciendo referencia. Se utilizan oraciones declarativas o enunciativas, pudiendo ser afirmativas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ega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El hombre es animal 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La fórmula del Ozono es 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No hace frí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Las clases se suspenden hasta la tercera h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Función metalingüís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centra en el código mismo de la  lengua. Es el código el factor predom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 . - Pedrito no sabe muchas palabras y le pregunta a su papá: ¿Qué significa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labra “canalla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na se encuentra con una amiga y le dice : Sara, ¿A qué operación quirúrgica te refie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unción f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iste en iniciar, interrumpir, continuar o finalizar la comunicación. Para este fin existen Fórmulas de Saludo (Buenos días, ¡Hola!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¿Cómo estas?, ¿Qué ´hubo?, etc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órmulas de Despedida (Adiós, Hasta lue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s vemos, Que lo pases bien ,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órmulas que se utilizan para Interrump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a conversación y luego continuar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 Perdón....., Espere un momentito...,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 español de Galicia puede comunicarse con otro de Andalucía, porque los dos conocen el mismo códi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aturalmente si nos fijamos en cada uno de estos hablantes, se aprecian diversid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 habla de la misma persona el andaluz que el gallego, aunque ambos hablen españ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ampoco utilizan de la misma manera ese idioma las personas que viven en el m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ural, que las que viven en una ciu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poé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utiliza preferentemente en la literatura. El acto de comunicación está centrado en el mensaje mismo, en su disposición,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ma como éste se trasmite. Entre los recursos expresivos utilizados están la rima, la aliter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j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“Bien vestido, bien recibi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“Casa Zabala, la que al vender, regal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i siquiera dos personas que viven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isma casa hablan de la misma manera: seguramente el abuelo utilice u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riedades lingüísticas diferentes de las del padre, y de las del nie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o, es más, incluso una misma persona habla de manera muy diferente según en qu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exto se encuentre: no es lo mismo hablar con un amigo que con el director del colegio, o el jefe de la ofic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ocedencia geográfica del hablante, su origen social y la situ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unicativa dan lugar a la aparición de tres tipos de variedades lingüí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primeras son las variedades geográficas, también llamadas diatópicas.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os dialectos. Estas son las más obvias, y en las que todos pensamos cu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ablamos de diferencias lingü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s segundas son las variedades sociales o diastráticas. Son los llamados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ociolecto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los cuales identifican a los hablantes como  miembros de un determinado grupo soci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quí se incluyen los grupos cuya forma de hablar identificamos con la lengua vulgar, o las diferentes jergas juveniles, o la 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 hablar de grupos sociales marginales, por ejemp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 la misma mane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on sociolectos las variedades cultas, las utilizadas por doctores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vestigadores universitarios en sus publicaciones, la jerga utilizada por 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édicos, o la que usan los abogad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terceras son las variedades funcionales o diafásicas. Son los llam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gistros lingüísticos. Estos registros aparecen en función de la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 la situación, o del contexto comunicativo en el que se encuentra el hab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5050"/>
                </a:solidFill>
                <a:latin typeface="Arial"/>
              </a:rPr>
              <a:t>FUNCIONES DEL LENGUA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denominan funciones del lenguaje aquellas expresiones del mismo 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ueden trasmitir las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actitudes del emisor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del hablante, en la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ral y del escritor, en la comunicación escrita)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rente al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o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omuni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18T16:51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